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%D8%B3%D8%AD%D9%91%D8%A7%D8%A82.wav" ContentType="audio/x-wav"/>
  <Override PartName="/ppt/media/GUN.WAV" ContentType="audio/x-wav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BBC-B6F6-430A-9807-87C56924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09F-BF84-4151-AA75-542A6F0A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43B-4081-4F7C-8F5F-32996CE3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29E-3261-4FB6-BE87-A6CA1CC3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968-4AB7-4232-9641-8215CD7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1B8-9F75-4DB2-9077-28B1AB41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53F-F567-4DBA-BB39-7AE471F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ADD-FF06-45B0-BBDC-5027E094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009-97F7-4D40-B4ED-8698425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5DE-4C22-467B-B4A8-69AB4C2E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1A8-DA01-4095-9713-0E1E160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80F-194B-4846-9935-6EC85F6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B3E516-1076-40C7-839C-0F11785B02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GUN.WAV"/><Relationship Id="rId7" Type="http://schemas.openxmlformats.org/officeDocument/2006/relationships/audio" Target="../media/RICOCHET.WAV"/><Relationship Id="rId8" Type="http://schemas.openxmlformats.org/officeDocument/2006/relationships/audio" Target="../media/GUN.WAV"/><Relationship Id="rId9" Type="http://schemas.openxmlformats.org/officeDocument/2006/relationships/audio" Target="../media/RICOCHET.WAV"/><Relationship Id="rId10" Type="http://schemas.openxmlformats.org/officeDocument/2006/relationships/audio" Target="../media/GU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7086600" cy="109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حركة وتنسي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2681280"/>
            <a:ext cx="335124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267080"/>
            <a:ext cx="7086600" cy="1098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كتب هن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0" y="5573880"/>
            <a:ext cx="3566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01:51Z</dcterms:modified>
  <cp:revision>26</cp:revision>
  <dc:subject/>
  <dc:title>No Slide Title</dc:title>
</cp:coreProperties>
</file>